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B13-4706-41B6-8094-61A583F2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4A1-49A3-44E9-A957-6CFC8EB6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51D-41BE-4626-A4CF-1A6DF770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A97-CCCD-4946-8AE3-DD9DF4DC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6A0-3C2F-4851-93A4-9976E1B1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C6B-07A9-4B6D-8EC6-02D0FC3B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9F3-A017-44EA-B9FB-A89C7AD8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A16-3D3E-450C-934E-1CAF08A4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1C0-FFD7-4382-854D-4B2377DD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C95-3568-452B-92AA-9EFB58B5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8EA-7952-47FB-B909-0ADC02BC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BF6-8C0F-4E8A-A606-BA47AD3F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C879-E60C-4124-B8DF-6B7445A52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228600"/>
            <a:ext cx="6216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ES  OVER  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23880" y="990720"/>
                <a:ext cx="51818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057400" y="2057400"/>
                <a:ext cx="25290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209680" y="2057400"/>
                <a:ext cx="1300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276720" y="1981080"/>
                <a:ext cx="68868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9880" y="1981080"/>
                <a:ext cx="6890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648320" y="2057400"/>
                <a:ext cx="2666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876920" y="2057400"/>
                <a:ext cx="787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468760" y="1981080"/>
                <a:ext cx="665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867280" y="1981080"/>
                <a:ext cx="7858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400800" y="1981080"/>
                <a:ext cx="8683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57400" y="2895480"/>
                <a:ext cx="1562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505320" y="2819520"/>
                <a:ext cx="688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038480" y="2819520"/>
                <a:ext cx="785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648320" y="2819520"/>
                <a:ext cx="876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447920" y="3657600"/>
                <a:ext cx="52578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h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09680" y="4495680"/>
                <a:ext cx="10670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8120" y="4621320"/>
                <a:ext cx="19047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876920" y="4572000"/>
                <a:ext cx="1600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477120" y="4572000"/>
                <a:ext cx="16002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09680" y="5410080"/>
                <a:ext cx="10670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00400" y="5562720"/>
                <a:ext cx="17524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029200" y="5486400"/>
                <a:ext cx="16002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hecker dir="horz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00200" y="228600"/>
            <a:ext cx="6216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ES  OVER  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914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90720" y="1371600"/>
                <a:ext cx="64767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00200" y="1981080"/>
                <a:ext cx="10396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14600" y="2133720"/>
                <a:ext cx="3778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43200" y="1981080"/>
                <a:ext cx="7542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352680" y="1981080"/>
                <a:ext cx="18226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29200" y="1981080"/>
                <a:ext cx="1143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00200" y="2895480"/>
                <a:ext cx="10396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14600" y="2971800"/>
                <a:ext cx="1954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95680" y="2971800"/>
                <a:ext cx="1955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743200" y="3124080"/>
                <a:ext cx="54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2865600"/>
                <a:ext cx="11430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24280" y="3124080"/>
                <a:ext cx="5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181480" y="2895480"/>
                <a:ext cx="1143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90720" y="3733920"/>
                <a:ext cx="33908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600200" y="4648320"/>
                <a:ext cx="438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981080" y="4572000"/>
                <a:ext cx="23400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4495680"/>
                <a:ext cx="7542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600200" y="5486400"/>
                <a:ext cx="438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81080" y="5410080"/>
                <a:ext cx="20811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209680" y="5562720"/>
                <a:ext cx="544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038480" y="5410080"/>
                <a:ext cx="20811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19520" y="4495680"/>
                <a:ext cx="1447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666880" y="5410080"/>
                <a:ext cx="1295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267080" y="5562720"/>
                <a:ext cx="544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24280" y="5410080"/>
                <a:ext cx="1295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00200" y="228600"/>
            <a:ext cx="6216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ES  OVER  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62120" y="1066680"/>
                <a:ext cx="76071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71600" y="1981080"/>
                <a:ext cx="6764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81080" y="2057400"/>
                <a:ext cx="26179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133720" y="1981080"/>
                <a:ext cx="10666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895480" y="2057400"/>
                <a:ext cx="1668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105520" y="2057400"/>
                <a:ext cx="341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4120" y="2057400"/>
                <a:ext cx="32223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86400" y="1981080"/>
                <a:ext cx="1496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8720" y="1981080"/>
                <a:ext cx="1722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421000" y="2971800"/>
                <a:ext cx="23479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11760" y="2971800"/>
                <a:ext cx="2900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19520" y="2895480"/>
                <a:ext cx="6760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81280" y="2971800"/>
                <a:ext cx="787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105520" y="2895480"/>
                <a:ext cx="10666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19920" y="2895480"/>
                <a:ext cx="1668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90720" y="4038480"/>
                <a:ext cx="16588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19320" y="4114800"/>
                <a:ext cx="4809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666880" y="4038480"/>
                <a:ext cx="16574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71800" y="4114800"/>
                <a:ext cx="4809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76520" y="4114800"/>
                <a:ext cx="787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352680" y="4114800"/>
                <a:ext cx="787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275000" y="4038480"/>
                <a:ext cx="22114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488280" y="4038480"/>
                <a:ext cx="22111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495680" y="4114800"/>
                <a:ext cx="8384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705720" y="4114800"/>
                <a:ext cx="838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05520" y="4038480"/>
                <a:ext cx="1295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91520" y="4038480"/>
                <a:ext cx="1295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648320" y="2286000"/>
                <a:ext cx="52056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781680" y="2133720"/>
                <a:ext cx="4572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486400" y="2133720"/>
                <a:ext cx="579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p:transition>
    <p:checker dir="horz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67652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ok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g. 658 #1-28 first colum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g. 659 #17-63 first colum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9T23:54:13Z</dcterms:created>
  <dc:creator>Don Helms</dc:creator>
  <dc:description/>
  <dc:language>en-US</dc:language>
  <cp:lastModifiedBy>CCSS</cp:lastModifiedBy>
  <dcterms:modified xsi:type="dcterms:W3CDTF">2001-05-04T15:48:39Z</dcterms:modified>
  <cp:revision>6</cp:revision>
  <dc:subject/>
  <dc:title>No Slide Title</dc:title>
</cp:coreProperties>
</file>